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CE8-A1FC-4230-8A3C-BFB1DAD3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233-8907-4AD1-8E09-67218A4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C9B-17BA-4293-BB5F-87236C2C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AD9-127D-4BAD-9538-7DC6E7C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802-4080-4838-864C-9FA8904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9E5-6DF8-4C42-BC20-E3F0F5DF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1E0-B165-47D5-B227-782BC40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4D7-5A57-441D-BF96-9D0C77C7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71D-9D1C-4AE5-8E4D-8768466C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AD1-99A3-49B6-B01C-1C19DC6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2CA-6507-482F-8668-AB5FFEC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AB3-E09B-445D-A5A0-17B7FCFB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91C-7E0C-4936-B07A-27E05F732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7 Ja v nebi láskavého Otc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éh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c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pohľad viery upiera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lasti večnej nádh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jeho lásk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a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b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asiteľa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ojho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á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 jeho milosť sa tu spolieha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 pre moju spásu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 smieť ži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ipravený veniec sláv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hlavu vloží mi ho Pán môj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jeho lásku bezmedz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jemu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55:10Z</dcterms:modified>
  <cp:revision>20</cp:revision>
  <dc:subject/>
  <dc:title>Je veľký náš Pán, on slávy je Kráľ Nech do všetkých strán  spev vrúcnych znie chvál.</dc:title>
</cp:coreProperties>
</file>